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DE0-32A2-4B78-BD92-2F9517B2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791-8EF0-4738-8CC7-D5C0B6E5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E24-34CB-4B0E-92C2-20630118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1C5-CA4F-4B74-9139-16269DFB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069-72D3-4CCE-9350-F558FBA3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EF5-045D-4494-B726-FA202BDA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AE8-EDEF-4E99-97F2-249D9E8E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05E-5019-4948-818D-61B08EB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2C4-2CF1-402E-BD02-BD21B2B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413-263E-4781-8233-B9A5CA99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4F1-3F76-4738-83CD-36D0CAD4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00A-7FD5-46A2-BF59-2A5BBBF0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4F9-8F8B-4581-9627-E34B3357B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8,4,the U.S." TargetMode="External"/><Relationship Id="rId3" Type="http://schemas.openxmlformats.org/officeDocument/2006/relationships/hyperlink" Target="259,5,country" TargetMode="External"/><Relationship Id="rId4" Type="http://schemas.openxmlformats.org/officeDocument/2006/relationships/hyperlink" Target="260,6,speak" TargetMode="External"/><Relationship Id="rId5" Type="http://schemas.openxmlformats.org/officeDocument/2006/relationships/hyperlink" Target="262,8,stripe" TargetMode="External"/><Relationship Id="rId6" Type="http://schemas.openxmlformats.org/officeDocument/2006/relationships/hyperlink" Target="263,9,next to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257,3,Words and phras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257,3,Words and phrase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57,3,Words and phrases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257,3,Words and phrases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 9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238_120905155322_1"/>
          <p:cNvPicPr/>
          <p:nvPr/>
        </p:nvPicPr>
        <p:blipFill>
          <a:blip r:embed="rId2"/>
          <a:stretch/>
        </p:blipFill>
        <p:spPr>
          <a:xfrm>
            <a:off x="0" y="1219320"/>
            <a:ext cx="5181480" cy="384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078775625424_2"/>
          <p:cNvPicPr/>
          <p:nvPr/>
        </p:nvPicPr>
        <p:blipFill>
          <a:blip r:embed="rId3"/>
          <a:stretch/>
        </p:blipFill>
        <p:spPr>
          <a:xfrm>
            <a:off x="3809880" y="3735360"/>
            <a:ext cx="5143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’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…=here is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法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似，用来介绍人或事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Here’s the capital city of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6013014035632687"/>
          <p:cNvPicPr/>
          <p:nvPr/>
        </p:nvPicPr>
        <p:blipFill>
          <a:blip r:embed="rId3"/>
          <a:stretch/>
        </p:blipFill>
        <p:spPr>
          <a:xfrm>
            <a:off x="304920" y="2819520"/>
            <a:ext cx="6400800" cy="38163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5"/>
          <p:cNvSpPr/>
          <p:nvPr/>
        </p:nvSpPr>
        <p:spPr>
          <a:xfrm flipH="1" rot="17776200">
            <a:off x="6024240" y="3500280"/>
            <a:ext cx="1584360" cy="222480"/>
          </a:xfrm>
          <a:prstGeom prst="leftRightArrow">
            <a:avLst>
              <a:gd name="adj1" fmla="val 50000"/>
              <a:gd name="adj2" fmla="val 14239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学二、看图片，小组讨论，组织语言，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句型来描述图片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the flag of the U.S.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has stars and stri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78775625424_2"/>
          <p:cNvPicPr/>
          <p:nvPr/>
        </p:nvPicPr>
        <p:blipFill>
          <a:blip r:embed="rId2"/>
          <a:stretch/>
        </p:blipFill>
        <p:spPr>
          <a:xfrm>
            <a:off x="533520" y="1752480"/>
            <a:ext cx="74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the map of the U.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1257478822NgHwuPLG"/>
          <p:cNvPicPr/>
          <p:nvPr/>
        </p:nvPicPr>
        <p:blipFill>
          <a:blip r:embed="rId2"/>
          <a:stretch/>
        </p:blipFill>
        <p:spPr>
          <a:xfrm>
            <a:off x="380880" y="1411200"/>
            <a:ext cx="754380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’s the capital city of the U.S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UI{4OA)]JMZ{AY0YVFK5APG"/>
          <p:cNvPicPr/>
          <p:nvPr/>
        </p:nvPicPr>
        <p:blipFill>
          <a:blip r:embed="rId2"/>
          <a:stretch/>
        </p:blipFill>
        <p:spPr>
          <a:xfrm>
            <a:off x="533520" y="1600200"/>
            <a:ext cx="6476760" cy="46432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5"/>
          <p:cNvSpPr/>
          <p:nvPr/>
        </p:nvSpPr>
        <p:spPr>
          <a:xfrm rot="19376400">
            <a:off x="4647960" y="990720"/>
            <a:ext cx="287280" cy="2286000"/>
          </a:xfrm>
          <a:prstGeom prst="upArrow">
            <a:avLst>
              <a:gd name="adj1" fmla="val 50000"/>
              <a:gd name="adj2" fmla="val 1988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化训练，巩固兼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is is a map ____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anada is 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紧挨着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 the U.S., they speak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___________is the capital city of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The flag of the U.S. 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有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s and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条纹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5812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81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x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181480" y="2743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838080" y="3429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shington, D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572000" y="3886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1981080" y="4419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ri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plac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一、同学们了解并掌握美国的著名景点和城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te House, the Statue of Liberty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二、同学们可以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介绍美国的著名景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White Hou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010928151909"/>
          <p:cNvPicPr/>
          <p:nvPr/>
        </p:nvPicPr>
        <p:blipFill>
          <a:blip r:embed="rId2"/>
          <a:stretch/>
        </p:blipFill>
        <p:spPr>
          <a:xfrm>
            <a:off x="457200" y="160020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ident of the U.S. lives in the White Hou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1334046232924"/>
          <p:cNvPicPr/>
          <p:nvPr/>
        </p:nvPicPr>
        <p:blipFill>
          <a:blip r:embed="rId1"/>
          <a:stretch/>
        </p:blipFill>
        <p:spPr>
          <a:xfrm>
            <a:off x="457200" y="1828800"/>
            <a:ext cx="5276880" cy="4062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20090707175802421"/>
          <p:cNvPicPr/>
          <p:nvPr/>
        </p:nvPicPr>
        <p:blipFill>
          <a:blip r:embed="rId2"/>
          <a:srcRect l="0" t="0" r="7500" b="15997"/>
          <a:stretch/>
        </p:blipFill>
        <p:spPr>
          <a:xfrm>
            <a:off x="5867280" y="2057400"/>
            <a:ext cx="2819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, Li M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01300000030421122183160976960"/>
          <p:cNvPicPr/>
          <p:nvPr/>
        </p:nvPicPr>
        <p:blipFill>
          <a:blip r:embed="rId1"/>
          <a:stretch/>
        </p:blipFill>
        <p:spPr>
          <a:xfrm>
            <a:off x="457200" y="1371600"/>
            <a:ext cx="420696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5105520" y="19051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724280" y="3200400"/>
            <a:ext cx="44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e of Liber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in New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标导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导学一、读课文，划出新单词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, country, Washington, D.C., stripe, next to, a map of…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讨论其发音与中文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side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938J4O3O4T8F0001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强化训练，巩固兼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这就是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ue of Liberty. It is in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总统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U.S. 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住在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ite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 know the 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著名景点）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95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er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05120" y="213372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057400" y="2743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32767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v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200400" y="3733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amous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an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U.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pea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.C.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华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tri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条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xt to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邻，紧挨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U.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38_120905155322_1"/>
          <p:cNvPicPr/>
          <p:nvPr/>
        </p:nvPicPr>
        <p:blipFill>
          <a:blip r:embed="rId3"/>
          <a:stretch/>
        </p:blipFill>
        <p:spPr>
          <a:xfrm>
            <a:off x="152280" y="2514600"/>
            <a:ext cx="5181840" cy="38480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191120" y="6248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map of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rot="2710800">
            <a:off x="5005440" y="5125680"/>
            <a:ext cx="1295280" cy="184320"/>
          </a:xfrm>
          <a:prstGeom prst="rightArrow">
            <a:avLst>
              <a:gd name="adj1" fmla="val 50000"/>
              <a:gd name="adj2" fmla="val 17565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国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复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ntry is next to the U.S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什么国家紧挨着美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. It’s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知道。是加拿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，讲（后跟某种语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.S., they spea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美国，他们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ashington, D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’s the capital city of the U.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就是美国的首都城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Washington, D.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华盛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ri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ag of the U.S. has stars and stri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的国旗有星星和条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red, white and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红白蓝相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078775625424_2"/>
          <p:cNvPicPr/>
          <p:nvPr/>
        </p:nvPicPr>
        <p:blipFill>
          <a:blip r:embed="rId3"/>
          <a:stretch/>
        </p:blipFill>
        <p:spPr>
          <a:xfrm>
            <a:off x="4191120" y="3505320"/>
            <a:ext cx="4952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xt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邻，紧挨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next to the U.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(UH1G}YSELUYEEMJHZ(L83K"/>
          <p:cNvPicPr/>
          <p:nvPr/>
        </p:nvPicPr>
        <p:blipFill>
          <a:blip r:embed="rId3"/>
          <a:stretch/>
        </p:blipFill>
        <p:spPr>
          <a:xfrm>
            <a:off x="31680" y="1981080"/>
            <a:ext cx="91346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10:07:33Z</dcterms:created>
  <dc:creator/>
  <dc:description/>
  <dc:language>en-US</dc:language>
  <cp:lastModifiedBy/>
  <dcterms:modified xsi:type="dcterms:W3CDTF">2016-07-24T10:11:4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